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280-396E-4CC1-B7CD-0FEA3E0C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7BD-7117-4505-8E7D-EC9DD407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6CE-2A5D-4EB4-B604-4E4F8D86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E04-3B32-4B9E-81D5-66CC1DA4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E08-592B-4A16-A123-E10411AF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34D-6D7D-4D28-930D-856DDE23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438-7120-4D12-951A-9B3277FC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3B5-8860-4521-A875-3B85C299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EAA-8766-4DB3-93D1-6B805BF7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80D-E3C3-463D-8842-8C94AC8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66B-6C35-4310-979B-4932D561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599-03D5-4D65-969B-42D42542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2BC0-F196-422E-A07B-1105A031B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2828880" cy="33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28600"/>
            <a:ext cx="6477120" cy="845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8686800"/>
            <a:ext cx="6632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S 1415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SEP 04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31440" y="379080"/>
            <a:ext cx="36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4120" y="5059080"/>
            <a:ext cx="522504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ARMY SOLDIER SUPPORT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SET # 14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7480" y="6977520"/>
            <a:ext cx="59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Commitment and Obligat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8320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4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9744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0520" y="705312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7280" y="8348760"/>
            <a:ext cx="13827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olden 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416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852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1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4852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9744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50920" y="396720"/>
            <a:ext cx="455616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TAIN COMMITMENT AND OBLIGATION RECOR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SET NUMBER 14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5360" y="1552680"/>
            <a:ext cx="6408720" cy="54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DITION:  Given a requirement to maintain Internal Commitment and Obligation Records and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ess to blank Commitment and Obligation Documents and standard offic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pplies and equip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      The student will maintain Internal Commitment and Obligation  (Fund Control)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:   In accordance with previous instructions, the STANFINS User’s Manual, DFAS-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IN Regulation 37-1, and DODFMR Volume 1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TUATION: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You are assigned to the 54th Mechanized Infantry Division at the Division Resour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ement Office. Because of unusually high tensions between European All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oviet Block countries, the 54th Mechanized Infantry Division has been moved to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uropean Thea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LTC Aaron Wilson is the Fund Certifying Officer for the 54th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MSCO 202011.00, APC A111) and K. Newsom, DAC, is the Fund Certifying Officer fo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4th Medical Battalion (AMSCO 202014.00, APC A32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QUIREMENT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Post all financial information to the appropriate commitment and obligation  (fund control)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Maintain the Uncommitted Balance of Funds Avail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 Today’s date is 5 October **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8080" y="1066680"/>
            <a:ext cx="644652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JKG-B                                                                                                                       1 October **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MORANDUM FOR:   Commander, 54th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Resource Manageme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BJECT:   First Quarter  (FY**)  Funding Targ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AMSCO  202011.00,  202014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C A111,  A3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DAAC  ZAAHA,  Z16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Direct obligation  (Initia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 Quarter     $590,000.00,     26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Annual   $2,400,000.00      98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 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 Funded Reimbursement Authority (FRA) - Not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Automatic Reimbusrement Authority (ARA) - Authorized based on receipt of ord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.   POL not included at company level, charged to HHC (W53BN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 a.   202011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NN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5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1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,0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65,000.00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3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9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$2,4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202014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0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75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5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2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6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98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840" y="0"/>
          <a:ext cx="6827760" cy="9144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0"/>
                    <a:ext cx="682776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23920" y="885204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03000" y="6469200"/>
            <a:ext cx="937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MARY SCHUT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8480" y="816768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422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6800" y="8928000"/>
            <a:ext cx="6273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1068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8700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8000" y="789156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37:12Z</dcterms:created>
  <dc:creator>Joseph Pecorella</dc:creator>
  <dc:description/>
  <dc:language>en-US</dc:language>
  <cp:lastModifiedBy>Administrator</cp:lastModifiedBy>
  <cp:lastPrinted>2000-01-24T16:37:43Z</cp:lastPrinted>
  <dcterms:modified xsi:type="dcterms:W3CDTF">2005-05-02T19:56:06Z</dcterms:modified>
  <cp:revision>19</cp:revision>
  <dc:subject/>
  <dc:title>No Slide Title</dc:title>
</cp:coreProperties>
</file>